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80E-D9B4-4F95-A9A0-62304DF0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B901-DBCB-48EF-B1AD-7701137A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0D476-F012-43C3-B331-55989F77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65D98-70E8-4039-809A-C0131DBD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380A8-5323-4133-81BE-28A3ACF8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003A4-F760-425B-99F6-529682FB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CF774-6D74-4698-9015-C4694854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22F02-D2C8-4CC7-86C8-3EE55FE7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02D82-3B5E-4C39-98D8-A4C728F7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EF8E4-C0D5-4D5A-8910-D041EF09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DFDB9-C43D-4EB8-98EB-FE167704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5F4AA-C6C1-4555-AE55-3CF7DB6B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BA8-E9AF-4C95-83A4-7C12B45C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AD6E4-0A83-4244-BA19-010BAE65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2CB25-5D13-4E98-9374-23F81F42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9B895-79A1-47FF-B33B-25DB0AC4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41E5C-E45F-4F86-9E03-A9AC585C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80EA3-1843-459A-B5F4-A79A8E57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D97AD-1C62-41B8-978F-8DB440DD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C4B74-BA83-43AD-AC2C-ECA607F9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A4A75-8ACE-4274-A888-A038D6D6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64AA7-878C-4253-A045-0E5B827E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D746F-C314-47C4-9B0F-92DFB535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651-D6AF-4F38-9FC3-D9779851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BA17D-BBA1-466D-BA59-F822069B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59768-3DA9-443D-B1B9-915978AF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94084-8E1E-4E45-A38F-3B56C5FD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701DF-D6E6-409F-8D87-914F9880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55345-E7DF-4EB0-9A69-C754D13C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FCC08-0D8C-403A-9717-45647FE5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3A8A9-0018-491B-9722-8C01A193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2D2C9-4FE7-402A-BCD9-4A7A83AC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57F17-C8A3-44D5-8C28-E33AEDB5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BBF89-CAE5-465B-ADAD-C735E6B7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E1B2-6F97-4315-899F-A23ECB0A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54118-7AEB-46A6-A566-FC420D89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22A79-A769-4A7D-A869-233A4970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D84E9-B6AA-4DF0-8E06-A9D5161B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5D392-1432-48B4-ABF9-3F41B5D6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E1A02-6767-46AD-9EC3-0DF90807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A01B5-09FF-4868-AACB-88B89F20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C5B9C-C4B6-41CC-B3DB-EA878CF6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DC2A0-F449-4ED7-9C60-0D10F9D2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FE382-DBFD-471D-8CFB-824C9052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F4E35-522D-40B2-B77D-ED27E6D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8A67-2717-43B2-89F5-EF4E458E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BC480-8138-4CD8-9EA1-03CC5E5D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B0EAE-56C3-40FE-948E-611F1BCC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3A6C2-EAC7-4E38-AA74-74B67CBB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71E23-A935-4C7E-8F61-BC24A6CB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7EC6E-CD5E-40FD-8B5D-AC8BC555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E6C5F-60B5-4228-BE29-9772F9B0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1199C-A96F-4901-838D-0AE892F8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93C92-57AE-49C9-B00A-1B3D4B39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A69C0-80F8-4881-A49E-13B90765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EEDC5-8CF1-4F21-A592-6372160B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3739-7FDF-47FE-9F08-4183182E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46891A-D9FD-4F5A-B927-A50FC03D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491D4-9D06-486A-AF36-D7979FE6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5D8E5-320D-4DD0-BA1E-5064E623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FF2F7F-68C8-41A5-A310-D236BBDC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C06A1-E8CB-4C12-AD7F-52639840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8882C-8778-4E19-A4A3-7BF72748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E5F69-7592-4D0B-BFCF-55954966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656C4-6676-4462-9A45-F98E3B2A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F1CBA-346A-492B-BF42-98D66C24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78A62-0070-4214-884D-CB03B54A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5ACE-6971-49AC-B9C8-668493F1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A259DF-9228-4CFA-84DF-CC175230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E3AC40-9651-4074-97E4-7EF86E1F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63C69C-531E-49B9-B513-B17DF6A0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91810-A390-49BB-B2A9-2286F90D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BDDC9B-F8DC-49F6-8328-D9A8E26A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8604B-BC2B-4ADE-9881-F8511C0B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FF81D-2674-4F3E-AC0D-A2CCC23B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D591F-DDFC-404E-A064-E6F68732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E9C7E-8E60-4621-885B-E6605007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F06EC-A63B-4FC7-8005-CC171930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B38E-94C2-42ED-9F7B-CC5B3845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75D97-9036-418B-B4EB-8A950B66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A44268-33DD-4535-AD43-5A12F28E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57760B-56E4-4D50-A9D5-2DC164A7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A02A5-D584-490B-B4FB-AF810010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0998DF-4CFA-4161-9BBF-E6C3F921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4F5C37-FBB6-4D00-896E-FF07B68C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37775F-BCE6-4683-BF40-A74BF85D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68FDB9-ED05-453A-89B8-00C8A461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7116D3-6A0B-4CB9-828B-DA6959AB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1228F8-4107-4E14-A9F5-DF59EB9B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95A1-1F01-4076-982F-F051BA5D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C4C82B-D97B-4B89-82D8-8CE5EF81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2E926-C164-4096-80C2-BE10382D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1C68F-388F-41F5-8C69-6D8A7A9A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7717AA-77FC-4CD6-BA79-B8CF2545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1D5E47-4C3A-449C-9A94-C3A82266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17EA4-9670-4E64-A6FE-EF05082C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72B7AF-33DD-411A-8FFD-61DF4612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A34177-35B4-4BE9-A2AF-F3C644AD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9E211E-C312-4F94-91E1-DD8E4827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67D21E-E500-484B-A73C-CD510BFE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A00F-6D2A-4E2A-B538-29DB26E3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F61CAC-E153-4A0A-91D0-09E7042B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99E572-0AA4-41B7-9676-602B08A2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BE6B73-B370-4F61-924E-7A749D8B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64E97-7ABD-463F-96DA-81E853DA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2B16B-6B25-418D-B58D-E5F42F23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13BC88-6DD9-489D-A30D-F7BB77EB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D04B42-0C09-4930-B3EA-CDC42EE2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A63540-C2D8-4D53-A97C-8E3B776C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1BCABA-19F6-42D9-BA9E-1E7FE76A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A1E0C5-C154-48F3-A558-DB094786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D72-5CAE-413A-8F99-6AB82178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93B9-475A-46A0-B1DE-49B15779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CD412E-8400-4F71-903E-70D6E0DF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438A8D-0A92-41D4-AC2D-08C94C4C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40BAF1-04FC-4FD9-AFD0-C612CDBC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463BA3-50E0-4656-B31F-3D3896D1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991926-94BD-4F90-A2EA-C8C2899D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3D1CB0-F889-466D-9651-401C1BD9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913144-2BE8-4C20-9F12-54D0FF2F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B16C92-2C41-48C9-A11A-44AC3E7F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B6C3FB-B2ED-4022-8ABC-DA748579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840706-1166-475E-A083-993078C3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5990-2A30-424E-A386-F20F39DE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3803AA-4B93-4C38-92C4-DD9279B8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8223A4-F1C9-4EBD-9E0E-9179874B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ECCF64-E6E1-47C6-8B9A-A307A951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8B6DA2-8913-4BBA-A6DC-EBD71477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9398BA-410C-4D28-BC8F-F0C5E1BE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1C4908-164C-40AE-9BA5-179DD1C5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7F8CEE-FC6A-42CE-A36E-65C3ED29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0FB4B7-7A72-4143-BACF-1C4CA2F5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33AA6E-260E-447E-98BD-9CC6B5A8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6C6333-2CDD-4464-B793-7542FE8E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A72D-C561-4D26-9B9F-A1DF6F54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C4BCCE-4493-487C-B1D7-AECC6240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364E35-5960-4058-B308-0E4AE631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AD7B7A-A399-431F-BC9D-AA3CAF41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A651E2-C2A2-488C-85B7-BDB3FB73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1F42B-6E99-4EA5-BE71-E5FA1188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A8AAF5-C947-446F-9EEF-6EC5A8FD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A3E5D2-4714-4D59-958D-57BB8391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588C71-1912-44D4-919E-EC249478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D08862-09E9-4A7F-8E87-D1CF0347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A171DB-6BC1-49D8-A0BB-F39ABBBF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785B-9A86-4022-8B61-5BEAC8AB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ABF282-86C3-4C43-916D-2F74D91A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22B11C-42F8-4933-9D42-CEBD21F9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165F79-EBD4-4683-AA00-7E365D33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AC69C3-4035-4145-B552-FD0A3B7C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FE170B-CF61-4A50-8700-1C7E3FA3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EC9D0A-3F24-45AC-B841-ABF3438D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6E3C04-B001-43E5-95F8-2BA28A06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C7BDB9-7F84-42CC-B6D6-79D30EBE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5209A6-ACBD-43E5-84B7-21181467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1292A9-39E6-4BB2-BD60-80A97215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92AB-5967-424A-8CFF-DD851F84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980764-2ED6-44EB-8D15-D1CE7261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5215D1-6E34-4902-8FF9-DC8ED6E3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443163-EAE2-412C-878D-536CB3ED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21D3B0-D19B-4DDC-9474-F58F8337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24D3E4-37BE-428A-9AC0-A43415AA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9DC712-5ED9-4D16-B061-3BB8C493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DBF4DA-44B4-4B7C-8830-6F019D73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F7B5C1-AFF3-4C93-8F3B-881505B3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1DBF87-2A93-4AA5-A159-BC2C2DD3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45ABCF-B97B-4B4A-A1E8-F070A0DF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4969D-0CE4-4B19-B568-BF85B9AC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C641C7-00B5-406D-8C7B-4D9B59C2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5838AB-69D4-434C-AEE0-1AC1EA3C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F31471-4532-4837-8E43-BC9F4385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FE9EDD-A35B-4041-8F30-16412060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966229-C3A5-42D8-8857-0DF236C1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96EA42-FE79-4DC9-B7D3-8F571B59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2B9A5A-67AD-49D7-8B43-6B0C508E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F97130-5419-4D4E-86A7-E9CAEEA2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2F9F36-3986-463F-980E-1FCAA9B7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A42BA1-E3AF-40F1-B387-3D4BDA14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E621B-1DD0-499D-89E7-09FF00BC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1D7A96-105C-4D7A-B30B-9A2C8D6C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711EFE-20A2-49F5-ACE9-F2AB87B8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0C3020-4F27-4A81-926A-44E456D7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269892-F7F6-4944-88B3-C0081549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F5A171-FC67-46E2-AAC0-0D69118E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1EA582-C2ED-4C6D-9B6D-8C96F6A7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7F21A6-C55D-4F39-8949-3F6026FD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B2486E-EF4A-4B82-BC5E-A1B2B690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1471F4-CC4F-469F-B435-D30F426B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84F553-8C04-4ED3-BFB9-4E4DEEFB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EBDEE-5909-4B6B-9E46-D8819542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29C3EA-73D4-4967-B37C-7D8DB70A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CEE4AE-035F-4AE2-8ABB-F4B827DD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7C56A1-7E3E-4754-84E1-6CC604D3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760CF3-1CEA-4244-B5CE-0EA0863C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84B97E-6119-4DEC-A8EE-1ACEDDCF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192E26-05BC-46B6-816D-7BD61EB2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5B0D31-D603-4861-B3AE-1D4B6F1E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997A-943E-4000-857B-F1DF6CB4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7FECF-3110-4CC0-AEE9-533774D0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7C6-E799-4843-B6CE-D889780C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69066-B5FD-4C58-9D34-45D2B418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D9D5-8011-42B2-8CA3-76531B85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D2249-A687-4951-8080-F7B347BA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C46E2-67CF-46CF-AB1B-A312473C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586F9-68D2-4391-8E3A-17DDCF3A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2022-9E73-448F-AB25-C354C757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D398F-17CC-4710-9EC2-A22737A0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923E0-97E6-4289-B94A-02BA194A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6508A-91F1-4C7C-9C6B-BC42876F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BF638-8033-4F92-BF5B-C29067AD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7C1-0604-417A-A508-BDBEF365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F3462-2222-4382-9485-8374DBA6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3D4BD-81EB-4E6D-96C8-AA261938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3E3CF-A800-48A6-9DA3-87C4DAC3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36719-B19B-449D-A3C3-B92A2589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97959-517E-447D-BA37-6A017664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1F81-A7F0-464F-B5E5-5118CD6E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D92D2-C2A4-4375-8D5E-7189310D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E85C1-39E3-4706-8FBB-497D2241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B79AB-ACBE-42A5-8609-D5499BAE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A48C1-D990-4A3F-83C4-FFB3FB3C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BEA-6226-4D98-AA92-F3E523D0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8BFEB-B5F0-42C8-BEA4-7FCB322D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2011C-5C9E-42EC-9B15-312665B4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51D9E-80B9-46EA-864E-46D36856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FDA46-15EB-4B24-9982-09018123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F1B1D-9C64-44F7-B3F1-EBBCAD88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686B4-E4FA-412C-A3A4-BFD894B0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F835F-27B8-4CC9-AB2F-02204854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597D3-055D-48DB-B391-00B951BB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046BC-D5A9-40B2-8E3C-23A3CB1D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F32C9-C106-434F-8D06-2FA1A278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AC91-77D7-4CEE-BE2C-509729BC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E98A0-8CF5-4B7D-B5F0-6F74A6DA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813DC-2E7E-4877-AC87-BD69A31D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AA9F4-E445-438D-B418-3F0325FE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F1BCD-1D0D-4F24-9236-5CEFA59B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E6616-4758-42C4-B586-C8517F24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526B7-FACA-4649-B312-A571F9C6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E363F-BCF3-429F-866D-AC977DDD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BB303-27AD-41BC-811B-3E410835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1DA0A-3CC9-4DED-A08E-2388BDEB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3BD17-9A1A-4988-BCB4-1AE19775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1D64-730A-40D4-ABDE-3EC247FA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3F331-54DD-4C01-B33D-2E1364C7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24370-4775-4ABD-9FE3-E4A7EFFF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AB37B-0668-4228-A9CD-022B4328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D11C7-8320-4B0D-977F-8C4EA8CC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1CAF8-26EE-4C38-A02B-CE493F36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0EC43-ABC7-4DCF-8D55-0B5936BF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A39EB-2721-43D0-96C9-6E38EB4F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A5777-9CA3-418E-9011-2AAAFA19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E958D-8739-4176-9715-642AADD7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F9F7E-DCDF-424D-AD7F-CF3EAAF9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872-503D-4B68-AED5-9FD8D8BB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89F60-FBD5-46AC-8062-2B230270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BDEBA-3CD3-40CD-A65F-C34B7261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8237F-1D1C-46ED-8952-62A97B09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A7EE6-5C1E-431B-BC43-0AA47C7E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C60D4-B411-48B1-B88A-F0CC5126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BB6AD-0621-4F96-B19F-D2B9F30D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3351D-B861-4EE4-BD99-C3DF3459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BBBBD-579E-4BA0-805C-9EC2F6A0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BE23A-69C8-49E2-A5C0-6FA7017D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750A4-9754-4A61-9B5F-A2FE6D2D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056-A44B-4B3B-8F57-89C5C165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F7A6C-B066-4997-A6DA-94E5644E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07846-6696-4B5B-A9A9-DDC9BEB5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527DB-0CD7-4484-B9F9-97BC0946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C5A32-A89F-4282-B0B6-B23573D1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0937C-3F9D-4886-92EF-78D8A268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648BF-C926-47DC-BE74-49125013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FB2F2-9CC3-44AB-84FC-4DD927F3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4816B-4017-42C4-B674-960C7B42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0DA51-9670-4678-82D2-C32A63F4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71937-FB88-44D6-82C5-DD0BBB75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83F9-ADE3-47C5-8481-AF3C8FFC78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FA89-0AD1-4B85-85DB-4E17584DD5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87AC-1036-4183-8CAD-EA44EC3ECF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7E53-7338-4563-A2DD-4AA59DDE50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5092-38F7-462B-BEB7-633AA96A7B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7BFB-1CEF-4898-BC5F-9C2192A399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1FDE-818A-4E30-A343-2540B37C6E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84DB-180C-4465-8400-CB93D935C3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AA68-E169-498C-9AAF-C195B71CAE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BB2C-739C-4D58-BA11-2E2E726C21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B816-5FA5-44FC-8321-014CE2FB1B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6253-8EE4-49BC-9ACD-D43B9F4EF7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0C82-330A-4D52-AB14-9EF2C24ED4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2119-3654-4150-A7E2-4E004E2714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FFEF-7EAA-4BE6-AC93-32E21FCCA5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81B1-ABE9-4944-8592-14ED11CE52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6A8F-91AF-44CF-8062-119B80924E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5ED9-C86A-4DED-AC69-33123393E8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AAAA-1B67-43CE-B851-22801039CD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84B4-16D1-47CE-9598-C6BFF68A1A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2625-2407-4687-88CC-48E78ADF99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2FA1-2136-4516-B3E9-F5D7ED6D66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3BAD-1AD2-412B-81BF-9E1B965229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CDC3-B698-405A-9616-637FD462D5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3EA9-504B-4798-8A64-12797EE24B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EC18-9C89-4ECB-A451-B6DC400224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0ED5-332A-4735-AC8D-E2D8ED2A12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E807-CCC2-44ED-AD0A-80F143C1D3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E175-C9DE-44FF-8CF0-85C1D7F098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E5FC-1E26-46E1-B0E3-F349017EA2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EC40-CF3A-454C-A278-FCBD173FA9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2FCA-D85F-4FB7-A7F3-2773A6084B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0120-996B-481B-82C0-C092953E0C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FC6B-D4AD-4628-9102-4894656DDA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1747-FF3B-476C-BB57-29E02AF012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677A-EDE0-40A0-9431-B2AD39E847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5CA0-8457-49D5-8808-BB7D388E92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1F65-3A77-4F40-B1DB-68DA3E6F6E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729C-7756-432A-A786-D32660E744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C9C4-4D4C-44E8-8C19-1CAC921597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1A28-2B47-47B0-8513-505AAF5C18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A689-822C-4970-8E03-D5CE77B592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93600" y="3105000"/>
            <a:ext cx="906300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414360" y="966960"/>
            <a:ext cx="8315280" cy="56098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476360" y="4365720"/>
            <a:ext cx="3527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619280" y="508464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1619280" y="580536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364000" y="4363920"/>
            <a:ext cx="35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5364000" y="5084640"/>
            <a:ext cx="352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409680" y="1652760"/>
            <a:ext cx="8324640" cy="3552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900000" y="2665440"/>
            <a:ext cx="360072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900000" y="3357720"/>
            <a:ext cx="360072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4"/>
          <a:stretch/>
        </p:blipFill>
        <p:spPr>
          <a:xfrm>
            <a:off x="5219640" y="2651040"/>
            <a:ext cx="360036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5"/>
          <a:stretch/>
        </p:blipFill>
        <p:spPr>
          <a:xfrm>
            <a:off x="5219640" y="3343320"/>
            <a:ext cx="36003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6"/>
          <a:stretch/>
        </p:blipFill>
        <p:spPr>
          <a:xfrm>
            <a:off x="5219640" y="4076640"/>
            <a:ext cx="360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171360" y="795240"/>
            <a:ext cx="8801280" cy="59533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042920" y="398952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4788000" y="3976560"/>
            <a:ext cx="30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2411280" y="469584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1403280" y="545940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6"/>
          <a:stretch/>
        </p:blipFill>
        <p:spPr>
          <a:xfrm>
            <a:off x="4356000" y="545940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7"/>
          <a:stretch/>
        </p:blipFill>
        <p:spPr>
          <a:xfrm>
            <a:off x="2411280" y="6208560"/>
            <a:ext cx="3889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888840" y="338040"/>
            <a:ext cx="7545600" cy="63867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403280" y="4365720"/>
            <a:ext cx="504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332000" y="494172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403280" y="5589720"/>
            <a:ext cx="504036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258920" y="6280200"/>
            <a:ext cx="504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181080" y="947880"/>
            <a:ext cx="8781840" cy="49622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900000" y="2981160"/>
            <a:ext cx="554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554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554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971640" y="4724280"/>
            <a:ext cx="554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6"/>
          <a:stretch/>
        </p:blipFill>
        <p:spPr>
          <a:xfrm>
            <a:off x="900000" y="5343480"/>
            <a:ext cx="554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523800" y="219240"/>
            <a:ext cx="8096400" cy="65433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187280" y="3787920"/>
            <a:ext cx="49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187280" y="4437000"/>
            <a:ext cx="49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1332000" y="501336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1332000" y="551664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900000" y="6135840"/>
            <a:ext cx="496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233280" y="1033560"/>
            <a:ext cx="8677440" cy="47908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1116000" y="371628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1116000" y="429264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900000" y="4927680"/>
            <a:ext cx="554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328680" y="939960"/>
            <a:ext cx="8486640" cy="54194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042920" y="3514680"/>
            <a:ext cx="49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1042920" y="4149720"/>
            <a:ext cx="49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971640" y="465300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971640" y="530064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6"/>
          <a:stretch/>
        </p:blipFill>
        <p:spPr>
          <a:xfrm>
            <a:off x="900000" y="5877000"/>
            <a:ext cx="496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6:0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